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A953-1D7D-4006-9BB2-5EC435FB9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9ABE-5E95-4DA2-9498-866E608B1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F815BB-43A0-4610-8170-0530D99B4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5F33D-1F6A-4B96-BCBB-25F3D861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34FC1-7447-4928-B725-C732F5C4C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F50CA0-70C1-4D2D-A307-B3EDE2EF2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897DD-E6C9-44EE-A959-B22AE563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234640-79A8-4A37-B404-21769F85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8E6EC-9E53-40D4-A26F-62EED44D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0001C-DEF6-40AA-B49A-8D1A279F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700B1B-4507-4375-ABB3-F7EC555D8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3B5212-8CDD-470E-921C-B11BC8E1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9F4F-F393-4AC3-9817-E42BBACA2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F0E922-627D-4BB2-957B-8D552AFC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CBAD9-B1CF-416C-A099-2B0DBCB64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505F2-D17C-41CE-81AF-E8F95ED0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EE74A-6D24-4E49-BD23-FF457080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03367-9D2C-4058-A9E0-1538E31A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D8FF4-7681-4050-AF00-21A9E572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131F1-335C-40AD-9276-8E14C20C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4E61E-B8A7-4E29-8624-D43788E8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4E0DD-A7B9-475C-B834-1E8A5E83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3ED88-496F-4909-8491-7CCCE5E4C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6A01-AD01-475A-93EE-02F645A58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C22A45-4BEB-47F1-8181-356492B84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BF83C9-66D3-48D8-9738-CD5D2952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2086A1-70FF-4DBD-B366-F4E5DB1E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6877B6-C423-4E1D-9751-6E74D3E4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9081E-6ACE-4D2C-B49D-436655C6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9156B-E02A-48E6-8AF4-C807C0ED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195C7-13B6-4C11-BC65-5435FDFD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D5E74-53DE-43F6-93CD-4FC9B0D2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186CF-1A68-449C-BCF9-8856E46B0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C22AC-3FFE-4ABA-96F9-AE0B6F3C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C2D5-3B85-4AFF-90E7-BD9CF352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DC56A7-D743-4891-86D9-546214DE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C6967-604C-4F18-9443-67C64D948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242E4-45BE-4621-88C5-F18805689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17769-4ACA-40CB-A1ED-010C6083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8AD321-892C-4EF6-B504-A3195DD6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6CC60-2C3E-4FE8-AA13-B70235D0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7B8FD8-6B41-460C-93CE-AFF20ABA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7B970-B8E9-4756-85D8-E32670E0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45E12-5EA4-4C96-9128-708FAF50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5C049B-7478-403C-A2F1-549CEDA0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4244-98F9-491B-8FDA-D5172A2D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B23CC-16EA-4897-BF1B-9C10D9CD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842F1-9258-4565-A087-C9086DF2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C7F25B-22BB-44A2-97C9-2C6D13E0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12B24E-BEA3-4630-B791-D6BFC2A52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9293FC-EBE6-4440-84E4-1BA1ED50E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A2404B-A59B-41B7-926E-91E8FE5B1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E17583-1339-4182-83CD-55DE84FC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8D1C3E-3A88-4485-AA25-32264262C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9B733C-7BAC-4AB7-B293-7C13EC85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5E1C5B-979B-42F5-B376-63F0DA60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93DD9-FAEA-4C5A-9AFC-67F89EFD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65612-5F21-414C-B6A6-655F1747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F4397D-B33F-4E7A-8D41-39E7E71F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2BCA28-8411-43F0-A7A8-AE47DADE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C9C854-0BFF-4E49-AF7A-2B2490ED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FB7376-F6E4-4AF2-B0C0-1FB48855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A52B2B-71FF-4A6D-B59B-E10726D65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E64F22-58C6-4A21-AD85-F6C4E10B7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4FAA0F-DFB3-4BFE-BF91-8B4090DB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E37618-3C45-4E86-80EF-2B25B5335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3E9723-1E10-4B5A-999B-028FFA03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EA2A-ACC8-4ADF-B557-2A5BE85F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32D479-1A34-4E64-8C90-84C42209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0C8978-DDB7-42B8-A230-4360213D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BF2804-8683-473F-A435-25BFA9393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281D6B-787F-4544-A4EB-D446D4252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795034-1070-4ED4-85C9-8F0E232D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EB8951-CE4D-4479-9986-9DFD08F2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F242D3-6864-4958-8162-D50D900F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7DE7C0-DF9E-45A6-8188-4A832AF9C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EAF991-DAC5-446C-B0B1-E0649C57F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5058E8-589A-4D7C-981F-BB0ACBB5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93BF-1CF3-4DA4-83D2-6B77112BA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EAEC2C-52EF-46DC-AEB0-50AD854A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6E4468-0AD4-4789-82E4-A0D78B7D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F8252C-41BB-4451-8606-4FAF0F73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6B2CBB-6B75-4FB3-B74D-C37CA4EA3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C504B2-BE8A-4CE2-A965-61F029BB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E2A6C3-1352-4A50-87AE-DC7131A7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4BDF13-3A72-4FE5-9557-B15A228BE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044DB4-8C31-4F54-9D36-C8BBEEAC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D2A316-5A71-4AA6-8557-B548CC3AC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B0989D-BDEE-499E-BB3B-0B4B27DF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24E48-9701-4872-BDCD-FE137916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DC9F17-CB30-4FD1-ADE7-889459EA3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0BC61C-E592-49A3-AABB-F499D525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CA963B-0EC8-4281-BCE2-444A3C2E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FC3735-0B12-4604-AFC6-1F09FC32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15FDB8-E43C-4F91-AC55-FFE48B77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29823A-4B74-40E2-8B49-C8B3A896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2D7C8A-B09D-41F6-B52E-2E0A1594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3C3FE8-5F26-4014-B456-637AA7B0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3534B7-8AA9-4F22-9E37-AE7694EB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7CEBD5-9E63-4107-A1D6-AA99BB70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BCF6-4483-4C34-A0D5-F6745E69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F47C25-ACF2-4603-A2DB-26845C41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C44B1D-8123-47C6-8CD9-2B74D3EB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71BD58-5787-458B-8109-601AFB36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598975-62BB-4D61-B1AA-C7AA403F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4326A8-6FEE-4B47-9F4E-D5B7AD5C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2139F1-095E-49A4-8EB8-55148BE3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D30B0D-7E14-4CF3-970A-BE313C06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65100E-E554-48F0-9D48-62E58B2C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BC3EF5-3D57-4327-8AEE-1C0FC25C2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2E2967-1F9B-4848-90BB-AE7934B5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0FF8-88AA-4069-ABC1-E8178909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5BF0-49B4-4BBD-A6A6-303271198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372518-70FE-459D-9DBB-891F1DA0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B374EB-7DAE-4975-9BE1-C9FDDB11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CB3042-99C9-4390-B640-FFDA50C3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767C22-041A-47AA-9329-16F9B05A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E9AE6E-661E-40F2-AEA7-F3BEC00D2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C01A1F-8AB0-4281-AF4D-D909A96E5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89E2DB-B5F0-437A-AF24-8E9816651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4CA73D-F5E3-491F-A096-1A1BC0DE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967BB3-89CC-4F5E-B260-4A1AB5CA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7A45D9-6A90-402D-9A61-6A16C0232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E358-6DAD-4154-A54F-1DB4F196A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7F58B8-EBED-48D9-938E-1348C97C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4EDE67-6059-4414-942C-A0EEF7D3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75D963-CFCB-48E7-851A-280C530AE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CB1996-5C62-4376-960A-7431F8D6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A39CFC6-E473-49A4-8301-E3CB1114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CD2B07-7E32-4242-AA43-A04F0B76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97BBDB-8CE9-4C5C-8B3B-F6675620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0086C5-A2E7-4F75-BD86-A5C6E4CF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3B3B01-CA5F-4C35-9847-E55F1456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A1C9D9-2DE1-4F1A-B507-3C794BC8F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25B26-AD30-4370-8611-CD8C3326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A73B3C-CF38-4E9F-B536-325E6550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F9AB08-F123-4E0C-9718-73BD4434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A79CC5-F5C8-47EB-9C5E-FF41E572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806DDD-BD74-4912-AD56-9413BF89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D33C32-AE30-4CFA-B5E2-E4047AD1D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BFE9E5-C013-41B5-9D06-794BE03E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A6170A-2C9F-4A41-8B6B-49FDC088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B32E42-4707-41AD-A771-02D8C75A1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495A54-E6F5-4FEE-8681-2F83DABF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D89FB1-855A-44B1-AC9A-0432E8F2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ADD4-B510-46CA-B0E2-669ECBB6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A990EC-0E42-4368-A739-6E447F023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AE7761-E0EB-42D4-BE50-7BE90DE0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44BF97-B290-4B48-ABE2-509838CF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2232C4-E182-4734-A693-A6BA2726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BD2DCD-7852-4F86-883D-758B983F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45C9D7-4412-46F6-80A6-FAA94F92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99D0D6-9D48-428D-8921-5C5114E5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5EAE1C-5950-4951-8FB7-2B183B7A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10891E-BCD6-4E98-B165-2B51B0CF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1AC4CC-0389-4F5F-ACFE-8240BE8A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1AED4-F4EC-4C43-BCDE-BC49D941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0E187B-6AE5-482A-B030-7B0EFFA2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42182E-0434-41A5-8645-4795C7C70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23ADDF-AA20-4006-AB2C-1E8B4B59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C7FB9B-049E-4220-A096-433C7DC50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9A125E-11AB-4880-9AA5-978E2454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8152B4-DD54-483F-8BD8-6645F67B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AF7E8C-1E55-4A89-8F03-7290FF45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182296-AE67-4431-B356-FF7099A2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4A5439-C3C2-427C-AAD5-FE2F7B69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184F17-D6AB-4C13-865F-84140C8F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ADE16-634B-47B4-9CA4-6CEAE410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FE1790-15C3-4E37-944A-1A1A71EB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D88610-DA62-483A-91CE-E8AF0CD6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C54032-6026-4F6A-8F25-459A8A06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AAC15B-251E-48B8-BC73-841B4D1AD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226EF-97F4-4A82-AFF3-2D6EC5ADB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0B164-488C-44FF-8DFD-FA3AE009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77E6A-1ABD-419A-AB00-B210EF18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58C2-E4F7-44E7-BF89-2F943B8A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E51DE-ACB4-4056-B3DB-C1BC5732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6945E-1F02-4832-B697-81E130FF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BB912-FE21-4F24-BD4B-49D2D9C3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FCBD8-99E9-44AA-A46A-AD0DB64A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4FCF8-D5AD-417A-A5A8-AEE290F46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974A6-CCD3-48D1-BBD2-D0C7484D8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C4ADE-DDA8-4BDF-A0D6-1E8C6D5BF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C67D8-277A-423A-BE34-03D9AE26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09A1B-FF73-46C6-B66B-03D84E1A7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FB24D-C5B4-4DC4-BBDF-847D3DA83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D8D9-047D-41D7-8EAC-1B9B8094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0C4A9-8F0D-47D1-BAA6-689C37816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6495F-A450-4E93-8A03-B945405F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BE9046-D867-4EA4-84A6-06F2AB16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251CA-7867-4B98-9699-A9B7033B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B0D3C-8459-4BBA-B71A-73EC17D4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4F82B-B6EC-46AB-83AA-57EEFD57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C5CC9-6EB0-43F4-A9FC-8DF5DBA4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04C48-4D80-497B-B765-6DE0F99C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FB404-7792-4E97-929D-FEAE7CD0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D9551C-F5B0-4370-9321-0C6F520A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5A77-3EC4-409D-941B-9900A502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F7DD8-1313-42A5-876D-9511AA05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9B9A3-815E-46CE-BFB7-6393469FA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2B4F7-BA55-43D6-8EAE-FA518798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5B9BD4-E832-456A-BF87-26405B58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4662C-DD5A-4EC3-BD7E-4A2A1F10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3B293-C05A-4D2D-BA16-73BE5251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333F4-34C7-4FE8-BD8E-B610BAEE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34434-A7C4-4DD9-88FA-66A9A4A1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5BF6B-47CE-47DD-B528-556823D1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C6400-6B5E-4BA6-9DB7-D48E5D012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539A-B835-4CB1-839B-5ACF8E87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0A25B-3481-42FA-8569-FE88EB14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87C1E-07A2-4E3F-9E0D-D2D7F849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FD8354-FF77-4D11-94FF-7B3650AE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EBE67-B962-4A52-B796-0B5060A4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A8F9BE-1B1A-4A29-A0B6-7916131C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D95CC-DD7D-4E36-8AC9-2B57729D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DAA556-6BBD-4A52-97EB-2CC9B58B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3EA4A-79BD-4618-AC02-5B064D10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45B5A-0CBA-4491-8A1D-2CC65698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5360A-52E3-40C3-AD2F-30000D96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6B82-8CF3-476E-8E44-647DB29F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AF727-13E3-4473-9613-B92B6DD0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AC500-D8C6-40BF-9644-5AA3DAB5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603E1-E851-4CFC-81F7-195644D0A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A23576-9EE4-417C-919E-690E253ED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E165B-AA31-4FF1-9BF2-F963BADA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137F3E-D2A5-4CDC-9393-3C4FBE29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9AB802-125D-44F2-958B-34BC396D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E1BF31-F49F-4F8D-9E98-6D04FFCE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C6C9E-D27A-4DEB-9937-5E78BE3A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FF3B1-E7A1-4C77-BC85-4652E810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A083-05AD-4FA8-A78C-DA569B98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11E41-89F3-4324-B467-707548B9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26443-4177-4C76-B753-65302757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CA4BF8-214C-4B07-B9EC-71CF77242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58F660-76A9-41CB-904D-BE3924293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C2124-0E3A-4234-9F9B-870B74360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01E74-25E3-4D7C-8CE9-E3E284762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BFC69-45AE-470C-9FC7-1F52F315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F59836-7788-4B7C-B212-7C6CAA62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08685-3001-48D4-8111-F11A5465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86FE3B-83B4-4FF2-AAA5-070F3092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46E3-9716-430E-9DD8-48B06414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8AC8B1-DC39-43DC-8637-13BBB2A6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06476-2DE8-4C7F-82E6-E9DCDC50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525F8-6B77-419C-87CB-0EB33BE9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E5894-0841-4110-8BF5-F9B777AB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52AA6-1EB8-4DCE-A0A8-F6D05C271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09906-01C6-4ADD-8220-D487FCC6E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BF06D-9B47-448C-9531-2A063709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AD8C67-059C-4AD2-91C1-54C844541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04779-EF77-49EE-8C03-86512ABF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4AA3B-7E41-4D0E-94E1-EB43781D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18E9-9303-4566-A8E2-218C79EFC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B726-6607-4E3B-9882-94175A7027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7C5B-12B2-437A-A6F7-E645576ED5F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56AF2-DB20-45E7-A85E-A09BA05851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9448-ABB9-470C-82C3-5F84786900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DB28-F2EE-4A6E-B17C-4D71AA2078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0716-9EDF-487F-9CA0-7DBC31AF52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E72A-3784-48DB-9D74-EF2896F606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1871-24D6-4DD4-B907-F83B8F3401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17F3-288F-49EE-8A50-0D0266BD6E2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1A67-B421-4CD7-A58F-55AE873C31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CD8C-A45B-4344-9E31-5FE7AA72E7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8C60-04BE-46E9-91D9-8894ECCF58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B25FB-7220-4769-9EBC-E038D8CD67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0A5EA-D64C-4D73-9A43-1EE3B3B1F6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3918-8766-48D0-A325-5D2821670A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5C89-78A9-49F3-AF0C-DFF68AC0A1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96E3-2713-43B1-B031-978D68180F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091D-2538-4050-9519-3E10A7B0A0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D7CC-D9B8-4B74-8BBC-953DDA2D90F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4213-B117-4417-82DC-5685913FB8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BB1C8-0EC1-4D9D-AEC8-68EB796CF54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1A6F-9C39-4B5A-9C96-5C82D8EB30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86FE-2477-4C68-AA52-0FEF9B9F7B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E071-6FD2-47AD-B204-411101520C3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1FAC-0DE8-4DAB-AE6C-A4D82AE30E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600CA-7F57-47CB-85B9-39A582C4C9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B454-87D2-4881-A9DA-ED7830D2BE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8B15-47B4-4A07-85FD-E7AC16879C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4E49-953D-4A9F-AD87-BCFF59F1DB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49AD-5E19-44FA-A06D-930FCE37A5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F6DB-130A-4146-9380-B412F6BA8D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04BF-3CB2-44E6-91D3-0389CCD15A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9236-C10D-4F49-BF33-00EC25BD6F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B459-489A-42C3-870E-F1044014FA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E220E-6D53-4F4C-8563-27558BDEEB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1DDC-9D94-4B19-9815-205F2001E0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7BE5-3D68-4421-BDB3-7FC5520D88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771D-A98B-4A02-9885-7609D1AF64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E820-3E48-4A29-A762-92B73640F3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1738440" y="2643120"/>
            <a:ext cx="56671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图片 1" descr=""/>
          <p:cNvPicPr/>
          <p:nvPr/>
        </p:nvPicPr>
        <p:blipFill>
          <a:blip r:embed="rId1"/>
          <a:stretch/>
        </p:blipFill>
        <p:spPr>
          <a:xfrm>
            <a:off x="390600" y="698400"/>
            <a:ext cx="8362800" cy="60850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4" descr=""/>
          <p:cNvPicPr/>
          <p:nvPr/>
        </p:nvPicPr>
        <p:blipFill>
          <a:blip r:embed="rId2"/>
          <a:stretch/>
        </p:blipFill>
        <p:spPr>
          <a:xfrm>
            <a:off x="7983360" y="1773360"/>
            <a:ext cx="519120" cy="44136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4" descr=""/>
          <p:cNvPicPr/>
          <p:nvPr/>
        </p:nvPicPr>
        <p:blipFill>
          <a:blip r:embed="rId3"/>
          <a:stretch/>
        </p:blipFill>
        <p:spPr>
          <a:xfrm>
            <a:off x="7885080" y="3362400"/>
            <a:ext cx="64764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7" name="图片 1" descr=""/>
          <p:cNvPicPr/>
          <p:nvPr/>
        </p:nvPicPr>
        <p:blipFill>
          <a:blip r:embed="rId1"/>
          <a:stretch/>
        </p:blipFill>
        <p:spPr>
          <a:xfrm>
            <a:off x="295200" y="1071720"/>
            <a:ext cx="8553600" cy="53244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4" descr=""/>
          <p:cNvPicPr/>
          <p:nvPr/>
        </p:nvPicPr>
        <p:blipFill>
          <a:blip r:embed="rId2"/>
          <a:stretch/>
        </p:blipFill>
        <p:spPr>
          <a:xfrm>
            <a:off x="1835280" y="3141720"/>
            <a:ext cx="519120" cy="44136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4" descr=""/>
          <p:cNvPicPr/>
          <p:nvPr/>
        </p:nvPicPr>
        <p:blipFill>
          <a:blip r:embed="rId3"/>
          <a:stretch/>
        </p:blipFill>
        <p:spPr>
          <a:xfrm>
            <a:off x="5292720" y="4221000"/>
            <a:ext cx="3382920" cy="44316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4" descr=""/>
          <p:cNvPicPr/>
          <p:nvPr/>
        </p:nvPicPr>
        <p:blipFill>
          <a:blip r:embed="rId4"/>
          <a:stretch/>
        </p:blipFill>
        <p:spPr>
          <a:xfrm>
            <a:off x="1476360" y="4762440"/>
            <a:ext cx="3095640" cy="4428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4" descr=""/>
          <p:cNvPicPr/>
          <p:nvPr/>
        </p:nvPicPr>
        <p:blipFill>
          <a:blip r:embed="rId5"/>
          <a:stretch/>
        </p:blipFill>
        <p:spPr>
          <a:xfrm>
            <a:off x="2340000" y="5300640"/>
            <a:ext cx="4608360" cy="4428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4" descr=""/>
          <p:cNvPicPr/>
          <p:nvPr/>
        </p:nvPicPr>
        <p:blipFill>
          <a:blip r:embed="rId6"/>
          <a:stretch/>
        </p:blipFill>
        <p:spPr>
          <a:xfrm>
            <a:off x="2556000" y="5832360"/>
            <a:ext cx="86364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3" name="图片 1" descr=""/>
          <p:cNvPicPr/>
          <p:nvPr/>
        </p:nvPicPr>
        <p:blipFill>
          <a:blip r:embed="rId1"/>
          <a:stretch/>
        </p:blipFill>
        <p:spPr>
          <a:xfrm>
            <a:off x="752400" y="1666800"/>
            <a:ext cx="7639200" cy="352440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4" descr=""/>
          <p:cNvPicPr/>
          <p:nvPr/>
        </p:nvPicPr>
        <p:blipFill>
          <a:blip r:embed="rId2"/>
          <a:stretch/>
        </p:blipFill>
        <p:spPr>
          <a:xfrm>
            <a:off x="1403280" y="2970360"/>
            <a:ext cx="2808360" cy="39672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4" descr=""/>
          <p:cNvPicPr/>
          <p:nvPr/>
        </p:nvPicPr>
        <p:blipFill>
          <a:blip r:embed="rId3"/>
          <a:stretch/>
        </p:blipFill>
        <p:spPr>
          <a:xfrm>
            <a:off x="1419120" y="3508200"/>
            <a:ext cx="2808360" cy="3985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4" descr=""/>
          <p:cNvPicPr/>
          <p:nvPr/>
        </p:nvPicPr>
        <p:blipFill>
          <a:blip r:embed="rId4"/>
          <a:stretch/>
        </p:blipFill>
        <p:spPr>
          <a:xfrm>
            <a:off x="1419120" y="4040280"/>
            <a:ext cx="2808360" cy="39672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4" descr=""/>
          <p:cNvPicPr/>
          <p:nvPr/>
        </p:nvPicPr>
        <p:blipFill>
          <a:blip r:embed="rId5"/>
          <a:stretch/>
        </p:blipFill>
        <p:spPr>
          <a:xfrm>
            <a:off x="1430280" y="4589640"/>
            <a:ext cx="2808360" cy="39672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4" descr=""/>
          <p:cNvPicPr/>
          <p:nvPr/>
        </p:nvPicPr>
        <p:blipFill>
          <a:blip r:embed="rId6"/>
          <a:stretch/>
        </p:blipFill>
        <p:spPr>
          <a:xfrm>
            <a:off x="4356000" y="3240000"/>
            <a:ext cx="2376720" cy="3970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4" descr=""/>
          <p:cNvPicPr/>
          <p:nvPr/>
        </p:nvPicPr>
        <p:blipFill>
          <a:blip r:embed="rId7"/>
          <a:stretch/>
        </p:blipFill>
        <p:spPr>
          <a:xfrm>
            <a:off x="4356000" y="3773520"/>
            <a:ext cx="2376720" cy="39852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4" descr=""/>
          <p:cNvPicPr/>
          <p:nvPr/>
        </p:nvPicPr>
        <p:blipFill>
          <a:blip r:embed="rId8"/>
          <a:stretch/>
        </p:blipFill>
        <p:spPr>
          <a:xfrm>
            <a:off x="4356000" y="4319640"/>
            <a:ext cx="2376720" cy="39852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4" descr=""/>
          <p:cNvPicPr/>
          <p:nvPr/>
        </p:nvPicPr>
        <p:blipFill>
          <a:blip r:embed="rId9"/>
          <a:stretch/>
        </p:blipFill>
        <p:spPr>
          <a:xfrm>
            <a:off x="6854760" y="3516480"/>
            <a:ext cx="1325520" cy="39672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4" descr=""/>
          <p:cNvPicPr/>
          <p:nvPr/>
        </p:nvPicPr>
        <p:blipFill>
          <a:blip r:embed="rId10"/>
          <a:stretch/>
        </p:blipFill>
        <p:spPr>
          <a:xfrm>
            <a:off x="6819840" y="4054320"/>
            <a:ext cx="132552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3" name="图片 1" descr=""/>
          <p:cNvPicPr/>
          <p:nvPr/>
        </p:nvPicPr>
        <p:blipFill>
          <a:blip r:embed="rId1"/>
          <a:stretch/>
        </p:blipFill>
        <p:spPr>
          <a:xfrm>
            <a:off x="361800" y="969840"/>
            <a:ext cx="8420400" cy="572292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4" descr=""/>
          <p:cNvPicPr/>
          <p:nvPr/>
        </p:nvPicPr>
        <p:blipFill>
          <a:blip r:embed="rId2"/>
          <a:stretch/>
        </p:blipFill>
        <p:spPr>
          <a:xfrm>
            <a:off x="7885080" y="2698920"/>
            <a:ext cx="51768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133200" y="1281240"/>
            <a:ext cx="8877600" cy="42955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3419640" y="3035160"/>
            <a:ext cx="2592360" cy="28584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3419640" y="3573360"/>
            <a:ext cx="2592360" cy="285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4"/>
          <a:stretch/>
        </p:blipFill>
        <p:spPr>
          <a:xfrm>
            <a:off x="3419640" y="4027320"/>
            <a:ext cx="2736720" cy="40500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5"/>
          <a:stretch/>
        </p:blipFill>
        <p:spPr>
          <a:xfrm>
            <a:off x="3492360" y="4556160"/>
            <a:ext cx="2519640" cy="4064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6"/>
          <a:stretch/>
        </p:blipFill>
        <p:spPr>
          <a:xfrm>
            <a:off x="6588000" y="3666960"/>
            <a:ext cx="1079640" cy="2876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7"/>
          <a:stretch/>
        </p:blipFill>
        <p:spPr>
          <a:xfrm>
            <a:off x="6588000" y="4076640"/>
            <a:ext cx="936720" cy="287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8"/>
          <a:stretch/>
        </p:blipFill>
        <p:spPr>
          <a:xfrm>
            <a:off x="6370560" y="4459320"/>
            <a:ext cx="64944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886960" cy="58676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2"/>
          <a:stretch/>
        </p:blipFill>
        <p:spPr>
          <a:xfrm>
            <a:off x="3132000" y="2227320"/>
            <a:ext cx="792360" cy="287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3"/>
          <a:stretch/>
        </p:blipFill>
        <p:spPr>
          <a:xfrm>
            <a:off x="971640" y="2637000"/>
            <a:ext cx="287280" cy="287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4" descr=""/>
          <p:cNvPicPr/>
          <p:nvPr/>
        </p:nvPicPr>
        <p:blipFill>
          <a:blip r:embed="rId4"/>
          <a:stretch/>
        </p:blipFill>
        <p:spPr>
          <a:xfrm>
            <a:off x="4022640" y="2638440"/>
            <a:ext cx="693720" cy="285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5"/>
          <a:stretch/>
        </p:blipFill>
        <p:spPr>
          <a:xfrm>
            <a:off x="1042920" y="3622680"/>
            <a:ext cx="1152720" cy="285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4" descr=""/>
          <p:cNvPicPr/>
          <p:nvPr/>
        </p:nvPicPr>
        <p:blipFill>
          <a:blip r:embed="rId6"/>
          <a:stretch/>
        </p:blipFill>
        <p:spPr>
          <a:xfrm>
            <a:off x="3995640" y="3811680"/>
            <a:ext cx="649440" cy="28728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7"/>
          <a:stretch/>
        </p:blipFill>
        <p:spPr>
          <a:xfrm>
            <a:off x="3067200" y="4611600"/>
            <a:ext cx="865080" cy="285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8"/>
          <a:stretch/>
        </p:blipFill>
        <p:spPr>
          <a:xfrm>
            <a:off x="1042920" y="5013360"/>
            <a:ext cx="433440" cy="285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4" descr=""/>
          <p:cNvPicPr/>
          <p:nvPr/>
        </p:nvPicPr>
        <p:blipFill>
          <a:blip r:embed="rId9"/>
          <a:stretch/>
        </p:blipFill>
        <p:spPr>
          <a:xfrm>
            <a:off x="2268360" y="5373720"/>
            <a:ext cx="935280" cy="285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4" descr=""/>
          <p:cNvPicPr/>
          <p:nvPr/>
        </p:nvPicPr>
        <p:blipFill>
          <a:blip r:embed="rId10"/>
          <a:stretch/>
        </p:blipFill>
        <p:spPr>
          <a:xfrm>
            <a:off x="4030560" y="5213520"/>
            <a:ext cx="576360" cy="287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11"/>
          <a:stretch/>
        </p:blipFill>
        <p:spPr>
          <a:xfrm>
            <a:off x="7236000" y="3575160"/>
            <a:ext cx="649080" cy="285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12"/>
          <a:stretch/>
        </p:blipFill>
        <p:spPr>
          <a:xfrm>
            <a:off x="6659640" y="3956040"/>
            <a:ext cx="1297080" cy="285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13"/>
          <a:stretch/>
        </p:blipFill>
        <p:spPr>
          <a:xfrm>
            <a:off x="6443640" y="5516640"/>
            <a:ext cx="216072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2" descr=""/>
          <p:cNvPicPr/>
          <p:nvPr/>
        </p:nvPicPr>
        <p:blipFill>
          <a:blip r:embed="rId1"/>
          <a:stretch/>
        </p:blipFill>
        <p:spPr>
          <a:xfrm>
            <a:off x="114480" y="892080"/>
            <a:ext cx="8915400" cy="57056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4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649080" cy="2876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3"/>
          <a:stretch/>
        </p:blipFill>
        <p:spPr>
          <a:xfrm>
            <a:off x="3492360" y="1268280"/>
            <a:ext cx="935280" cy="2876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4" descr=""/>
          <p:cNvPicPr/>
          <p:nvPr/>
        </p:nvPicPr>
        <p:blipFill>
          <a:blip r:embed="rId4"/>
          <a:stretch/>
        </p:blipFill>
        <p:spPr>
          <a:xfrm>
            <a:off x="7020000" y="1268280"/>
            <a:ext cx="649080" cy="2876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5"/>
          <a:stretch/>
        </p:blipFill>
        <p:spPr>
          <a:xfrm>
            <a:off x="755640" y="1679400"/>
            <a:ext cx="936720" cy="2876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6"/>
          <a:stretch/>
        </p:blipFill>
        <p:spPr>
          <a:xfrm>
            <a:off x="8388360" y="3862440"/>
            <a:ext cx="43164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588960" y="717480"/>
            <a:ext cx="8215200" cy="606420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2"/>
          <a:stretch/>
        </p:blipFill>
        <p:spPr>
          <a:xfrm>
            <a:off x="7885080" y="1185840"/>
            <a:ext cx="517680" cy="4428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3"/>
          <a:stretch/>
        </p:blipFill>
        <p:spPr>
          <a:xfrm>
            <a:off x="7812000" y="4149720"/>
            <a:ext cx="51912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图片 1" descr=""/>
          <p:cNvPicPr/>
          <p:nvPr/>
        </p:nvPicPr>
        <p:blipFill>
          <a:blip r:embed="rId1"/>
          <a:stretch/>
        </p:blipFill>
        <p:spPr>
          <a:xfrm>
            <a:off x="314280" y="981000"/>
            <a:ext cx="8515440" cy="48960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2"/>
          <a:stretch/>
        </p:blipFill>
        <p:spPr>
          <a:xfrm>
            <a:off x="7934400" y="1413000"/>
            <a:ext cx="517320" cy="4428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3"/>
          <a:stretch/>
        </p:blipFill>
        <p:spPr>
          <a:xfrm>
            <a:off x="7885080" y="4859280"/>
            <a:ext cx="5176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390600" y="735120"/>
            <a:ext cx="8494560" cy="60181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4" descr=""/>
          <p:cNvPicPr/>
          <p:nvPr/>
        </p:nvPicPr>
        <p:blipFill>
          <a:blip r:embed="rId2"/>
          <a:stretch/>
        </p:blipFill>
        <p:spPr>
          <a:xfrm>
            <a:off x="8028000" y="2349360"/>
            <a:ext cx="519120" cy="44136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3"/>
          <a:stretch/>
        </p:blipFill>
        <p:spPr>
          <a:xfrm>
            <a:off x="7956720" y="5300640"/>
            <a:ext cx="51732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361800" y="831960"/>
            <a:ext cx="8420400" cy="578160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4" descr=""/>
          <p:cNvPicPr/>
          <p:nvPr/>
        </p:nvPicPr>
        <p:blipFill>
          <a:blip r:embed="rId2"/>
          <a:stretch/>
        </p:blipFill>
        <p:spPr>
          <a:xfrm>
            <a:off x="7953480" y="4290840"/>
            <a:ext cx="51912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图片 1" descr=""/>
          <p:cNvPicPr/>
          <p:nvPr/>
        </p:nvPicPr>
        <p:blipFill>
          <a:blip r:embed="rId1"/>
          <a:stretch/>
        </p:blipFill>
        <p:spPr>
          <a:xfrm>
            <a:off x="773280" y="826920"/>
            <a:ext cx="7694280" cy="183852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3" descr=""/>
          <p:cNvPicPr/>
          <p:nvPr/>
        </p:nvPicPr>
        <p:blipFill>
          <a:blip r:embed="rId2"/>
          <a:stretch/>
        </p:blipFill>
        <p:spPr>
          <a:xfrm>
            <a:off x="657360" y="2716200"/>
            <a:ext cx="7829280" cy="39718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4" descr=""/>
          <p:cNvPicPr/>
          <p:nvPr/>
        </p:nvPicPr>
        <p:blipFill>
          <a:blip r:embed="rId3"/>
          <a:stretch/>
        </p:blipFill>
        <p:spPr>
          <a:xfrm>
            <a:off x="7667640" y="3201840"/>
            <a:ext cx="519120" cy="4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4T03:39:20Z</dcterms:modified>
  <cp:revision>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